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7CF-7E62-4BFC-AF96-7B85E2AE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25C-A2D9-4DFF-AC3A-DB7FC533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723-0FDA-4AB3-9420-742F5A0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B69-053D-490D-B2B7-A8315D81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4EC-3A12-4006-8EC1-F14419F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BFF-4ED3-49A5-913B-9E41DB4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7DC-30FC-4B33-A27A-19B29E99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CF5-FC68-4BF5-836C-84C10A8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794-9191-4A30-B9C1-660D6BE3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233-F839-4F89-878E-B944F0D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269-0645-412C-9516-ED0A15B7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6CD-26DB-4CCF-B155-D7B80EA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EBAC-06BB-4505-BE73-4987947CCB0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ffff"/>
                </a:solidFill>
                <a:latin typeface="Arial"/>
              </a:rPr>
              <a:t>Да се насладим на уникалната природа на Бъ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427640" cy="23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309840" cy="23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68360" y="4067280"/>
            <a:ext cx="3527280" cy="259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896000" y="404964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66"/>
                </a:solidFill>
                <a:latin typeface="Arial"/>
              </a:rPr>
              <a:t>ОБШИРНАТА РОДОПА ПЛ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0000"/>
                </a:solidFill>
                <a:latin typeface="Arial"/>
              </a:rPr>
              <a:t>СКАЛНИТЕ МОСТ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0000"/>
                </a:solidFill>
                <a:latin typeface="Arial"/>
              </a:rPr>
              <a:t>Скалните гъб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1349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ffff66"/>
                </a:solidFill>
                <a:latin typeface="Monotype Corsiva"/>
              </a:rPr>
              <a:t>Белоградчишките ска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400" spc="-1" strike="noStrike">
                <a:solidFill>
                  <a:srgbClr val="ff0000"/>
                </a:solidFill>
                <a:latin typeface="Arial"/>
              </a:rPr>
              <a:t>МОНАХЪТ И МОНАХИН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ffff"/>
                </a:solidFill>
                <a:latin typeface="Arial"/>
              </a:rPr>
              <a:t>МЕЛНИШКИТЕ ПИРАМ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ff0000"/>
                </a:solidFill>
                <a:latin typeface="Monotype Corsiva"/>
              </a:rPr>
              <a:t>РИЛСКИТЕ ЕЗ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993366"/>
                </a:solidFill>
                <a:latin typeface="Monotype Corsiva"/>
              </a:rPr>
              <a:t>Езерото “Бъбрека”от птичи погл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5400" spc="-1" strike="noStrike">
                <a:solidFill>
                  <a:srgbClr val="ccff66"/>
                </a:solidFill>
                <a:latin typeface="Monotype Corsiva"/>
              </a:rPr>
              <a:t>Езерото “Бъбрека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ccff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ccff66"/>
                </a:solidFill>
                <a:latin typeface="Arial"/>
              </a:rPr>
              <a:t>Ягодинската пещ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66"/>
                </a:solidFill>
                <a:latin typeface="Arial"/>
              </a:rPr>
              <a:t>Съева дуп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66"/>
                </a:solidFill>
                <a:latin typeface="Franklin Gothic Medium"/>
              </a:rPr>
              <a:t>С. Гранит Старозагорско – Гранитски дъб - Най-старото дърво у нас, от вида летен дъб. Възрастта му се изчислява на около 1650 години. Короната му е 1017 кв. м, обиколката на стъблото - 7,45 м, а височината - 23,40 м.Той е поникнал през 334-335 година. Дървото буквално е изсъхнало през последните 20 години. От огромната, прекрасна, зелена корона, днес е останал само един сух скелет,с няколко живи клона, подкрепян от стоманена конструнция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443376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9933"/>
                </a:solidFill>
                <a:latin typeface="Arial"/>
              </a:rPr>
              <a:t>БАЙКУШЕВАТА М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9933"/>
                </a:solidFill>
                <a:latin typeface="Arial"/>
              </a:rPr>
              <a:t>На второ място по възраст е Байкушевата мура - черна мура - открита през 1897 г. от лесовъда К. Байкушев който тогава е изчислил възраста и на 1200 г. Намира се край хижа Бъндерица н.в. 1930 м. има обиколка 7,8 м. височина 22 м. и диаметър 2,5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ffffff"/>
                </a:solidFill>
                <a:latin typeface="Monotype Corsiva"/>
              </a:rPr>
              <a:t>Витошко ла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600" spc="-1" strike="noStrike">
                <a:solidFill>
                  <a:srgbClr val="000000"/>
                </a:solidFill>
                <a:latin typeface="Monotype Corsiva"/>
              </a:rPr>
              <a:t>Родопско лал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7200" spc="-1" strike="noStrike">
                <a:solidFill>
                  <a:srgbClr val="ffff66"/>
                </a:solidFill>
                <a:latin typeface="Monotype Corsiva"/>
              </a:rPr>
              <a:t>Рилска игли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6000" spc="-1" strike="noStrike">
              <a:solidFill>
                <a:srgbClr val="ffff66"/>
              </a:solidFill>
              <a:latin typeface="Monotype Corsiva"/>
            </a:endParaRPr>
          </a:p>
        </p:txBody>
      </p:sp>
    </p:spTree>
  </p:cSld>
  <p:transition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66ccff"/>
                </a:solidFill>
                <a:latin typeface="Monotype Corsiva"/>
              </a:rPr>
              <a:t>Пясъчна лил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Monotype Corsiva"/>
              </a:rPr>
              <a:t>Легенда за еделвай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</a:rPr>
              <a:t>Живели някога сестра и брат, Едел и Вайс. Един ден, докато си лежали на някаква поляна, Вайс видял един непознат бял цвят високо на скалите. Показал го на сестра си Едел и тя предложила да се покатерят догоре и да го откъснат като подарък за техните родители. Започнали да се изкачват двете деца, но колкото по-нагоре отивали, толкова по-трудно ставало. Едва успял Вайс да откъсне непознатото цвете, когато усетил, че камъка се изплъзва под пръстите му. Извикал на сестра си, че пада, тя му подала ръка в желанието си да го спаси и двамата полетели в пропастта. На следващата година на мястото, където двамата паднали, поникнало цвете, което в памет на децата кръстили ЕДЕЛВАЙС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1349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333399"/>
                </a:solidFill>
                <a:latin typeface="Monotype Corsiva"/>
              </a:rPr>
              <a:t>Р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66"/>
                </a:solidFill>
                <a:latin typeface="Monotype Corsiva"/>
              </a:rPr>
              <a:t>МУФЛ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0000"/>
                </a:solidFill>
                <a:latin typeface="Monotype Corsiva"/>
              </a:rPr>
              <a:t>КЪДРОГЛАВ  ПЕЛИ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993366"/>
                </a:solidFill>
                <a:latin typeface="Monotype Corsiva"/>
              </a:rPr>
              <a:t>ВИД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66"/>
                </a:solidFill>
                <a:latin typeface="Monotype Corsiva"/>
              </a:rPr>
              <a:t>БЕЛОГЛАВ ЛЕШОЯ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ffff66"/>
                </a:solidFill>
                <a:latin typeface="Arial"/>
              </a:rPr>
              <a:t>ИСКЪРСКИ ПРО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9:05:09Z</dcterms:created>
  <dc:creator>.</dc:creator>
  <dc:description/>
  <dc:language>en-US</dc:language>
  <cp:lastModifiedBy>.</cp:lastModifiedBy>
  <dcterms:modified xsi:type="dcterms:W3CDTF">2010-01-26T21:16:06Z</dcterms:modified>
  <cp:revision>2</cp:revision>
  <dc:subject/>
  <dc:title>Slide 1</dc:title>
</cp:coreProperties>
</file>